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E973-31A3-4AB0-AC3F-8C42BD39D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BCD6-B3B9-4721-B4F3-0D4E1533C44A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6D8-06E6-481A-ACC0-0571F69BE295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85F-DD53-4F5C-A7F2-9E0F3FDF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1BE-CD16-4170-B5EF-09B17E67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15E-16F6-42FE-AFBF-84A48884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2C6-699D-4780-8633-458C56F3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5ABA-683B-4366-9649-230EC53E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2B6A-DDD6-4ADC-ABED-94C4A621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855A-E098-4887-8B37-62F5F082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03AD-3DD2-436C-8FFD-AEC0D80B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7255-794F-4D6D-A5ED-7F7179D5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9FA0-0E08-432C-A75F-AF9E7148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1A0D-7832-4387-B193-A5CD2F6C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D8E-EB9D-42CD-803C-2C7E8BBC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A86D-B7B5-4B96-90EB-BA335E3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986F-B318-4871-A79E-0F578CA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1574-816B-46B6-A707-3F9EC106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0BAF-CC65-4834-86EF-F06FF46C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5061-A733-4598-B826-298AC5D2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7CC8-D6F6-4A42-951B-4E80596B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202F-B45D-4C8A-AFF3-98466845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924B-1F14-4BA7-BA2A-02EB7EE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5A8B-2A32-40D8-8B9A-9835DB42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F531-589C-406D-933D-01CC0144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336-4210-4986-92C3-5B79646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96B5-D97F-4710-AB97-C7A81E9D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DD19-8061-4E58-B066-1A73E06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C79B-EE67-4937-A552-F870DECA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2860-3036-4DDC-BAB9-49254C9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2391-E6E5-45CD-ABFA-CA2FF961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F326-7762-4571-A487-DE7C3ED1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F326-3101-404B-8C0F-FFA458DE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024CA-BE69-46CF-839D-BFEAF0E8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CC5E-8E65-4AEC-A886-30DA9E8D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238B-D664-41A3-BBF7-7BE9DBDD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C85-85F8-49B6-8D35-96B39BE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0CBB7-3CCC-4B43-859F-77104100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91A0-F876-4C3E-B409-3C52C54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0611-5761-458F-BC2C-5BEAF206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5A1A2-0216-4E3E-AC0E-5C1136E0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02F23-D835-458B-9D3B-FBA73C2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34CCA-A11F-4119-A25B-F9B9AA55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DC88-5643-46D4-B240-B0818BD9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C79D3-42B9-4699-91FE-75C9A443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C3403-A2AE-4CD7-8644-78F04911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E606-1C89-4B1F-B3EE-8854E38A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BBB-76AA-41B1-A49B-8E35619A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780E-0378-4206-8334-613530D7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2CE5-494C-499F-9B88-20B0AB8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C3C7-CEA9-4121-B2EB-784F42E7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29E8-CE3A-46AD-A6BA-6EE0FD4E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B5A41-B08E-4569-BD4D-367B9CEA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82223-6F01-4647-A7D7-C7B8106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EFB96-5564-47CE-9732-A04675D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91EE-C992-4D61-B883-BBC12049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810E-207D-4901-8592-89983CD2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4029D-5623-4854-AF68-30D610A4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5DE-84CE-4B3F-BC47-7AACD093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20530-3943-484A-801E-DEE05F9D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E1353-45AA-40DC-8FE5-BCC65CD2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42939-ABDF-4BE1-856D-0B247CC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A559E-504A-4737-9988-9F52926A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FB5E9-780D-44B3-B25C-F578933D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C2A4-D0EB-412E-BC7F-5619D045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ECC8D-F806-45E8-829A-527F76D9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21516-0042-4761-9CFB-E923400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6D1F-2082-4432-91B7-3573374F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3F6D6-3A64-4589-8934-EB19D533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F26-0AA9-4DD0-A75D-0EDBB14A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F8DA0-6BCA-42EE-9B5C-DAF47136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5B6EC-62A5-4613-8DFB-8B26A2EC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2463D-38E1-428B-9350-D35DF5AE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41DA3-FBC2-49E2-88B2-6181F32E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2904-5993-4FA6-AACD-0C34136D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36CCF-30A9-4CC3-A6C2-1B08218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0DECE-120E-4C37-95EE-05FCDAAE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F9384-0580-49DE-989F-DDBE915C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53D4-298F-49CE-AB80-4C595AA9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ACFD2-B1AC-4D5B-ADF5-2CB56A4D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4FD-3EDE-43EC-9719-88B5AE6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B6737-66AA-4D80-BEF1-2F8CADCE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38487-5A83-4D19-B8D0-D043FC26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7C4E-7991-449C-9070-1DB29F33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37E0F-E4C6-4F17-9719-4858984C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EB0EA-B012-4018-AEBF-B590E9AC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532A8-CC9D-496D-9CDE-D3EB9CDD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C3D8-8ED3-4BE7-A679-DDF9FD9F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888B4-493F-479C-BEED-31985390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CA67-6E66-4ADF-A712-05B31215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F029-2ED6-4294-9895-FD1A6B39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884-C472-4B66-A6F3-A00F68E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CC054-5098-4A76-9C58-0AA31A19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26F55-4055-450E-9ADA-3908D588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FA755-668F-4F7B-8EFB-9A4840C9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15514-9F59-42F9-8278-9EC0A23E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E0B7C-1465-4F18-AA2A-334AC641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4E07C-B9A4-405F-8323-165BF6CC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EE77-5775-42BC-94A3-E4A8E58E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FE64-CEC2-4FD7-A2A9-F3FEFEBCF8FC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5715-5A32-4C38-9699-C7F65B31FA2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0472-54FC-4FDD-A706-A070F9931D65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BF63-04D3-49C3-BCA6-E519C2EAC57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CA50-06A3-4072-B5A3-B3210AC6B05C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4208-6A62-4955-A430-4B1D3B367C0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715B-E986-46E6-A81F-F23F19825D1A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CB6-F460-48DE-879C-EEEFE846A7B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A20F-F66B-455C-A176-1BA920708DDA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A779-10FB-41C1-BDC7-51A4D02D2E0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0166-C486-41AD-8161-3B1EA5124E7E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29ED-5EA8-4462-A2C7-015EA93A4BF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67F9-3E5C-4A2D-A259-5052059DFB8C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6F04-60AF-4BC6-B618-2D695CF7367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226F-B938-41F5-B09B-7EF9AFA3B1B3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B11E-EB23-427D-B659-8180C6BF565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elcome to the technical partner mee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N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838080" y="260280"/>
            <a:ext cx="75502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bjective of the mee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4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838080" y="260280"/>
            <a:ext cx="75502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Objective of this mee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understand how your institute works with rainwater management and disseminates knowledge to extension services/ ngo’s and to farmers/commun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reach a common understanding of what rainwater management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identify a criteria for a suitable and applicable decision making support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EACD-7325-4AB2-915B-721CB374EC6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Principle of collaboration with N3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You are the end – user of the N3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herefore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he tools has to suits to your nee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iniciples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Your knowlege is equally importa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Your opinion matt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t only success stories allow us to lear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eaknesses are opportun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=&gt; Develop </a:t>
            </a: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together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 decison making support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CDC1-C489-420B-AF23-196F5D6E295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How are we going to do in this mee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Your 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scuss the different practices and intervent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o come up with our definition of rainwater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velop a criteria list for a decision making support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Identify what is needed to develop a tool that fits expectation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5" name="Tijdelijke aanduiding voor voettekst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930C-1F9D-4425-A778-3D7F42F4CA3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ay 1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390600" y="1438200"/>
            <a:ext cx="8235720" cy="4919760"/>
          </a:xfrm>
          <a:prstGeom prst="rect">
            <a:avLst/>
          </a:prstGeom>
          <a:ln w="0">
            <a:noFill/>
          </a:ln>
        </p:spPr>
      </p:pic>
      <p:sp>
        <p:nvSpPr>
          <p:cNvPr id="379" name="Tijdelijke aanduiding voor voettekst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47E9-B71E-4F58-AF71-1A4B3EFFE7F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ay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Tijdelijke aanduiding voor voettekst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8885-0CCE-4EFC-A717-394A5B3EB95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68360" y="1557360"/>
          <a:ext cx="8229600" cy="2243160"/>
        </p:xfrm>
        <a:graphic>
          <a:graphicData uri="http://schemas.openxmlformats.org/drawingml/2006/table">
            <a:tbl>
              <a:tblPr/>
              <a:tblGrid>
                <a:gridCol w="2450880"/>
                <a:gridCol w="5778720"/>
              </a:tblGrid>
              <a:tr h="280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.30-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2800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.00-1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izing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80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.30 –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81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 -12.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ainstorming about criteria for a decision support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800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.30-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un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560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3.30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 discu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valuation wrap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800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5-15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7:35:18Z</dcterms:created>
  <dc:creator>Catherine -user</dc:creator>
  <dc:description/>
  <dc:language>en-US</dc:language>
  <cp:lastModifiedBy>Catherine -user</cp:lastModifiedBy>
  <dcterms:modified xsi:type="dcterms:W3CDTF">2011-03-28T07:18:53Z</dcterms:modified>
  <cp:revision>20</cp:revision>
  <dc:subject/>
  <dc:title>PowerPoint-presentatie</dc:title>
</cp:coreProperties>
</file>